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743-81ED-4F62-B42D-93D85C8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70A-10C2-4363-B00E-749BECC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956-5FDE-4CB4-906E-83F3FACD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CC2-E263-4728-BC40-6866652B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6A6-93FB-49CD-836F-F61828B0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E30-BE7A-43E5-9492-CC0203D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ACF-DC18-46FA-A05F-02A1AD89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DDB-3679-4C53-BD88-F7B71DB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045-B2D2-4577-8289-05BAC302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F3F-F63F-4EDA-ABF4-9396401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80B-3A4C-4291-8327-0169D34E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854-6244-412C-A4C2-CB88A27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1175-9D8C-4678-920C-453F0A788ED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Víruso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Kanyaró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Mumpsz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Rubeol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Kanyaró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kanyaró (morbilli), nyálcseppekkel terjedő, vírus okozta fertőző betegség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lappangási idő után láz, köhögés, hurut és kötőhártya gyulladás a kezdeti tünetek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Pár nap múlva a fül mögött, majd az egész testen végigvonuló kiütések lépnek fel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kciógomb: Egyéni 3"/>
          <p:cNvSpPr/>
          <p:nvPr/>
        </p:nvSpPr>
        <p:spPr>
          <a:xfrm>
            <a:off x="720720" y="6119640"/>
            <a:ext cx="1258920" cy="540000"/>
          </a:xfrm>
          <a:custGeom>
            <a:avLst/>
            <a:gdLst>
              <a:gd name="textAreaLeft" fmla="*/ 34920 w 1258920"/>
              <a:gd name="textAreaRight" fmla="*/ 1224000 w 125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48938" y="1400"/>
                </a:lnTo>
                <a:lnTo>
                  <a:pt x="1400" y="140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48938" y="20200"/>
                </a:lnTo>
                <a:lnTo>
                  <a:pt x="48938" y="140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8" y="202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Mumpsz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mumpsz vírusos fertőző betegség, mely cseppfertőzéssel vihető át egyik emberről a másikra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lappangási idő után lázzal és az egyik, majd a másik oldali nyálmirigyek duzzanatával jár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kciógomb: Egyéni 4"/>
          <p:cNvSpPr/>
          <p:nvPr/>
        </p:nvSpPr>
        <p:spPr>
          <a:xfrm>
            <a:off x="720720" y="6119640"/>
            <a:ext cx="1258920" cy="540000"/>
          </a:xfrm>
          <a:custGeom>
            <a:avLst/>
            <a:gdLst>
              <a:gd name="textAreaLeft" fmla="*/ 34920 w 1258920"/>
              <a:gd name="textAreaRight" fmla="*/ 1224000 w 125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48938" y="1400"/>
                </a:lnTo>
                <a:lnTo>
                  <a:pt x="1400" y="140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48938" y="20200"/>
                </a:lnTo>
                <a:lnTo>
                  <a:pt x="48938" y="140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8" y="202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Rubeol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rózsahimlő (rubeola), vírusos fertőző betegség, amely cseppfertőzéssel terjed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Gyermekeknél enyhe betegségként zajlik, láz, apró kiütések és tarkótáji nyirokcsomó-duzzanat formájában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Felnőtteknél ízületi gyulladás lehet a kísérő tüne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kciógomb: Egyéni 3"/>
          <p:cNvSpPr/>
          <p:nvPr/>
        </p:nvSpPr>
        <p:spPr>
          <a:xfrm>
            <a:off x="720720" y="6119640"/>
            <a:ext cx="1258920" cy="540000"/>
          </a:xfrm>
          <a:custGeom>
            <a:avLst/>
            <a:gdLst>
              <a:gd name="textAreaLeft" fmla="*/ 34920 w 1258920"/>
              <a:gd name="textAreaRight" fmla="*/ 1224000 w 125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48938" y="1400"/>
                </a:lnTo>
                <a:lnTo>
                  <a:pt x="1400" y="140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48938" y="20200"/>
                </a:lnTo>
                <a:lnTo>
                  <a:pt x="48938" y="140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8" y="202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9:09Z</dcterms:created>
  <dc:creator>Oktatási Hivatal</dc:creator>
  <dc:description/>
  <dc:language>en-US</dc:language>
  <cp:lastModifiedBy>Oktatási Hivatal</cp:lastModifiedBy>
  <dcterms:modified xsi:type="dcterms:W3CDTF">2010-05-25T09:34:05Z</dcterms:modified>
  <cp:revision>32</cp:revision>
  <dc:subject/>
  <dc:title>Védőoltások</dc:title>
</cp:coreProperties>
</file>